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518885"/>
        <c:axId val="90397079"/>
      </c:barChart>
      <c:catAx>
        <c:axId val="518885"/>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0397079"/>
        <c:crosses val="autoZero"/>
        <c:auto val="1"/>
        <c:lblAlgn val="ctr"/>
        <c:lblOffset val="100"/>
        <c:noMultiLvlLbl val="0"/>
      </c:catAx>
      <c:valAx>
        <c:axId val="90397079"/>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18885"/>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839AE-5BC9-4B8B-8996-6B01110EE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36365-FB8B-4CAB-A347-DF8768603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78ACE-E331-45C2-AD58-200853945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B9777-5D60-4659-88C1-BC14BAEF7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D2674-42A4-41F0-BDC3-06EE46D55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ED36A-A427-4184-B8A8-73E19178D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E1C98-FEA5-41CA-AEFC-10C3FC0C6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09FE2-CC60-4987-8D6A-24AF2538A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81438-E6B1-4D65-B0F0-E7DB8C0E2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1E6F4-5786-4BE5-B268-669291F71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1AF50-DD30-4CF2-AFE7-A285C444E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3D2EB-E84E-4013-82FC-9827D348C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64836-973A-450F-B5DE-E9D100D79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84803-3C71-48A8-B4A6-3BCCDE706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C68C1-20C2-4B98-A035-30FEA9BE6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46AB1-19CA-4A1A-9844-4A7C6CE3C4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CB84C5-A8A8-4D3F-B77B-B9FABB61E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439A0-1C17-4546-BF16-D4DBFC882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E6EC9-5E08-4CFE-9403-613AA315B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C98FF-2EC1-4390-B27A-AE476E042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4BEDB-D965-47FF-926F-1A4EC1723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FFC8C-1D74-432A-856A-E50CAF914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1A82B-FC2A-4383-A97D-A453DD8CD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D955D-3916-462D-924B-D415997C8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62AB31-C52A-449C-ADDD-D5AA2A0EE15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C7DFAD-74FB-4476-9600-4B5D3339FF6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