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99884294"/>
        <c:axId val="63872634"/>
      </c:barChart>
      <c:catAx>
        <c:axId val="99884294"/>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63872634"/>
        <c:crosses val="autoZero"/>
        <c:auto val="1"/>
        <c:lblAlgn val="ctr"/>
        <c:lblOffset val="100"/>
        <c:noMultiLvlLbl val="0"/>
      </c:catAx>
      <c:valAx>
        <c:axId val="63872634"/>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99884294"/>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F1CA76-5533-4277-BB54-5F3DBFE9D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F6DAF-B8B8-4312-9BDE-99E71A493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F1C67-60B9-420B-8D5E-EB14117443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E5178-10E4-426F-A5FA-574A4BF1E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F26001-41E5-4E2A-813D-2B02AE2154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670EF7-1D7F-4338-864A-7476B16283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AE23D-3944-414C-A0BA-604E0086AF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53FAB-9908-4BDF-8C25-47B221C89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A4EC7-0501-49E3-8F39-EE082443A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86D3D-F10B-4E7E-9577-AFAB7BE35E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2BF986-E6BD-44F2-9D39-EDBF8EF2B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6E6FC-9A43-4C0F-9A3A-6DB7FE404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D1DCA-FA8E-44E1-8AF0-2FEBB25E3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27296-6D09-48FA-9210-55DC778F4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902A0-DC57-4D67-8359-832A2A961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07BAE7-4FCD-4417-823B-989DF9B495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8CC14E-3234-425C-B4F7-E8435BB6BD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8786A-1A5C-457A-9FF4-1134C59D3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D956F-A884-43AB-95AF-31D58B627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D7A36-277A-4939-8773-3C9EEAE21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A055E-5C71-4D4A-9B2B-0D1FCB695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3D77F-AEF8-4F50-BF3B-921FB22EC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8267B-F5EE-476B-9F96-76AD48733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782F2-86CF-44D1-BFB4-3DA0E984A4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7A0937-749C-4033-B11F-75E155F41A2A}"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FBF51B-3092-4FDF-9AB8-E25A525C4388}"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