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5203188"/>
        <c:axId val="48193282"/>
      </c:barChart>
      <c:catAx>
        <c:axId val="2520318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8193282"/>
        <c:crosses val="autoZero"/>
        <c:auto val="1"/>
        <c:lblAlgn val="ctr"/>
        <c:lblOffset val="100"/>
        <c:noMultiLvlLbl val="0"/>
      </c:catAx>
      <c:valAx>
        <c:axId val="4819328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520318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43330-1D7A-48FE-8158-D235281E4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1A66C-C8C8-4552-BE0E-9F158874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E0043-AD82-49EE-9540-71A21920B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5878E-77CA-4F1F-92E0-C12A0D586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D0ABB-7F6E-4C3B-AB8A-62E350CD8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F43E1-D192-4DCE-B31C-9DF871408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60BE2-EF65-476C-8F4E-E88532187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C540E-6FC4-4428-992B-5C9F7AB85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FFE5D-700C-4E9B-99A6-0C01C71B8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5888A-F0E4-4F0A-B1A2-91CC22734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4591D-19D4-4324-B593-D5A083F07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F8B59-08E6-4EDA-B359-AE8113F6B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A09C6-E3C5-49C8-9FF2-ACED6145D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D6527-8D71-4BC0-9E9D-831FE5B98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7B5B9-9112-4D03-AB0D-8E6858615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84ACB-C239-4617-9C27-ECE1FD8BB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FD48E-97AB-4BE5-9C31-411A53DD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B34A-D01A-41DE-BB04-C6FA26B6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5945F-D79E-49F3-BB1D-3D0FE957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A4535-1BE1-495F-8D32-0A7E7F6E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313CA-4454-42E6-B6CE-0EA4911DE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CF77-28FA-423B-BC7D-9052E56D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39D3F-52FF-4225-95B6-DB3D67410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C98A-1AF1-4502-A0BB-DE19A6B83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96602-D9D1-4ACC-8ACE-A7B1ED13326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BD694-42CC-453E-9259-B50C7C9B6F0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