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5229585"/>
        <c:axId val="52772325"/>
      </c:barChart>
      <c:catAx>
        <c:axId val="2522958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2772325"/>
        <c:crosses val="autoZero"/>
        <c:auto val="1"/>
        <c:lblAlgn val="ctr"/>
        <c:lblOffset val="100"/>
        <c:noMultiLvlLbl val="0"/>
      </c:catAx>
      <c:valAx>
        <c:axId val="52772325"/>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522958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0B243-FEEB-48A0-9C10-D677C0CE4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B8416-E4EC-44A3-846B-D52E3EF0A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76291-1DAF-4C80-83EF-B237B6782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A5557-93D4-4CBA-95F6-E7ABA1D06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429F3-327E-4C51-9730-F13EAC406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048EF-E3C0-4935-BAB8-11C85F7D3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756C9-A509-4FCC-83EE-C08AF78C0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C54AE-1124-48AD-B964-54E374D35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1B305-8E43-4E7B-8F75-38796E126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96949-D268-4D08-8C4F-E87635AAF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5B907-BC7E-4E37-8899-3C6F2E8BF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415E0-AE9B-4C2B-87E8-9213A77D9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0C524-C751-4C7B-961E-DB058FF68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827CF-F90C-4BAE-9E94-C39840456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58393-0B52-4034-A3AB-1567D5A76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FA946-03E4-41E3-AE06-0D4584B05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73B72-73C9-4AF3-9750-18BC9655D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6570-C75B-4B98-995F-0FF258597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BE61-DB1A-4DDC-9234-CE475987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C6B85-FC08-4B85-B8FF-9D96CA02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3A5A2-C1A2-4812-925A-5CC7DB789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17BF-4604-4840-9755-F7CCBB791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EF4A-FBDC-435A-B715-BCC7F77A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F809-07E5-46CB-BBB6-A6604F63E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162707-0AC9-4A0E-B290-8148CD3CDE9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4B824A-1648-45CE-AE10-8AAD7C95DFB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